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6C5A-9BD5-4F8A-9416-69880417D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7359-B057-4224-9FDC-4D191ACA4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FCAF-1A45-423C-B1D4-16CAADEB8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FC53-AD2D-44D6-A81B-EC959DFBE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049C-0CF5-4C31-9826-F8BAC39A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21E3-6FF3-44C2-A9DA-A5516A21B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F137-F3E6-459C-BB41-9E8DEFC18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0232-E895-4370-AB89-B2A95E68D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01F5-D705-4F6C-88DD-CFE6D21DE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3932-261B-45A6-886B-6A7F8A19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052C-C2B3-4FDD-B936-5F7D7EFB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ADCA-CF43-4452-9669-A474931A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37313-63EB-4332-B1E2-182C99FA4B7D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开发组管理员：刘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3.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结构与规模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最小化框架，实现管理器和专家注册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包装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服务封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各项子功能独立化，可动态装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统一的基类设置与调试输出接口的支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提供多语控制接口，支持动态界面切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规模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万行左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成员结构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职能分工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项目管理员、代码提交控制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开发人员、测试人员、文档编写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交流管理人员：包括邮件、论坛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QQ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群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层次结构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管理员：负责整个开发组和项目的协调管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核心组成员：主力开发测试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普通成员：代码贡献人员和普通文档测试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项目管理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主力平台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镜像平台：共创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soft)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协作与管理工具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任务管理与错误跟踪：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每日构建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a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全程自动发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任务单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时间线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的计划与展望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产品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支持，提供开放的开发接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Delphi 2007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的支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根据用户需求完善其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.NE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或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Jav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平台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插件计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网上社区建设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社区，供用户交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团队建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功能演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参赛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预览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初步支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支持自定义编译选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环境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内容：代码输入助手、窗体设计工具栏、单元窗体列表、编辑器工具栏、多语切换、专家设置列表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ascal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脚本、源码统计、自定义编译选项设置工具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谢 谢 大 家 ！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欢迎交流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1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发源于大富翁论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初期目标：基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包、工具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成员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4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产品：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组件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移植版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创始人：周劲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管理员：周劲羽、刘啸（参赛负责人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什么是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是一组集成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/ C++Builder / BDS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中，用于增强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、提高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可用性及开发效率的免费、开放源码工具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第一个版本发布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底，目前已走过四年的历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主要面向哪类用户群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主要面对使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5 6 7 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++Builder 5 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DS 2005  200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目前的发布版本包括简体中文、繁体中文、英语三种语言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参赛版本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目前正准备发布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主力开发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的创始人、管理员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周劲羽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先生曾被评为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产品专家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用户遍布国内外。据目前升级数量的统计，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用户数目保守估计在四千人以上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用户群分布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开发背景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系列工具占有相当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AD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市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提供了开放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架构体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外同类专家产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GExpert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deRush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astali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odelMak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等拥有相当用户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内暂无符合中国人开发习惯的专家产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据此，我们开发了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许可协议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遵循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许可协议 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该协议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Sourc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官方开源协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源码未经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授权禁止用于商业目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二次发布时必须附带此协议文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不提供任何明确或隐含的担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责声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特色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简繁英多语言界面支持，方便国内外用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强大，部分特色功能属于首创，居国内外领先水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部分特色功能针对中文用户的需求，弥补了国外产品部分功能不实用的缺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附带一批成熟的组件包和公共库工具供开发者使用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费开源，框架体系开放，可供二次开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刘啸</dc:creator>
  <dc:description>2001－2007 CnPack开发组</dc:description>
  <dc:language>en-US</dc:language>
  <cp:lastModifiedBy>Passion</cp:lastModifiedBy>
  <dcterms:modified xsi:type="dcterms:W3CDTF">2007-03-24T13:30:58Z</dcterms:modified>
  <cp:revision>29</cp:revision>
  <dc:subject/>
  <dc:title>CnPack IDE 专家包参赛作品介绍</dc:title>
</cp:coreProperties>
</file>